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F5D-0D3F-4D6B-97D0-0C7F02BCC1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4A4-744C-439E-BB05-3C785D95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A65-E786-4F4E-9CF7-4CE9FFA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CD8-37F7-48A3-BF31-A56DC16D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C4E-2C7C-4539-B8C0-652BFA02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179-8DAC-4DAF-B95D-B86AB976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161-217C-4851-8400-E2A421D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BB7-EB2E-4DDE-90A1-A6270D09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DFE-F56B-46BA-B2EF-56975EAB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5E4-B539-4745-90AF-14728C55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267-4108-4153-921A-B0394C2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23F-E1E3-4002-B009-0F3F8FB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AC8-37B3-4B7D-BC3D-1D54D9A6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5EE6-B822-410D-BEF1-7B70BA81E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295200"/>
            <a:ext cx="39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1219320"/>
            <a:ext cx="8000640" cy="3352320"/>
            <a:chOff x="609480" y="1219320"/>
            <a:chExt cx="8000640" cy="3352320"/>
          </a:xfrm>
        </p:grpSpPr>
        <p:grpSp>
          <p:nvGrpSpPr>
            <p:cNvPr id="50" name=""/>
            <p:cNvGrpSpPr/>
            <p:nvPr/>
          </p:nvGrpSpPr>
          <p:grpSpPr>
            <a:xfrm>
              <a:off x="609480" y="1219320"/>
              <a:ext cx="7992360" cy="1100520"/>
              <a:chOff x="609480" y="1219320"/>
              <a:chExt cx="7992360" cy="1100520"/>
            </a:xfrm>
          </p:grpSpPr>
          <p:sp>
            <p:nvSpPr>
              <p:cNvPr id="51" name=""/>
              <p:cNvSpPr/>
              <p:nvPr/>
            </p:nvSpPr>
            <p:spPr>
              <a:xfrm>
                <a:off x="60948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0184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4148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27348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584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93784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270200" y="121932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09480" y="2349000"/>
              <a:ext cx="7992360" cy="1100520"/>
              <a:chOff x="609480" y="2349000"/>
              <a:chExt cx="7992360" cy="1100520"/>
            </a:xfrm>
          </p:grpSpPr>
          <p:sp>
            <p:nvSpPr>
              <p:cNvPr id="59" name=""/>
              <p:cNvSpPr/>
              <p:nvPr/>
            </p:nvSpPr>
            <p:spPr>
              <a:xfrm>
                <a:off x="60948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60184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4148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27348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0584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3784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270200" y="2349000"/>
                <a:ext cx="0" cy="110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09480" y="3471120"/>
              <a:ext cx="7992360" cy="1100160"/>
              <a:chOff x="609480" y="3471120"/>
              <a:chExt cx="7992360" cy="1100160"/>
            </a:xfrm>
          </p:grpSpPr>
          <p:sp>
            <p:nvSpPr>
              <p:cNvPr id="67" name=""/>
              <p:cNvSpPr/>
              <p:nvPr/>
            </p:nvSpPr>
            <p:spPr>
              <a:xfrm>
                <a:off x="60948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60184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4148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7348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0584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3784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270200" y="3471120"/>
                <a:ext cx="0" cy="110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609480" y="1219320"/>
              <a:ext cx="7992720" cy="3352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480" y="2345400"/>
              <a:ext cx="79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7400" y="3462480"/>
              <a:ext cx="79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0948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1         4        7       12      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644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3200" y="3689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133720" y="4876920"/>
            <a:ext cx="914040" cy="1260360"/>
            <a:chOff x="2133720" y="4876920"/>
            <a:chExt cx="914040" cy="1260360"/>
          </a:xfrm>
        </p:grpSpPr>
        <p:sp>
          <p:nvSpPr>
            <p:cNvPr id="81" name=""/>
            <p:cNvSpPr/>
            <p:nvPr/>
          </p:nvSpPr>
          <p:spPr>
            <a:xfrm>
              <a:off x="2424960" y="5038560"/>
              <a:ext cx="357840" cy="2541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3720" y="4973400"/>
              <a:ext cx="411840" cy="40716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22160" y="5311440"/>
              <a:ext cx="215280" cy="38232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21880" y="5321880"/>
              <a:ext cx="329040" cy="29340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7440" y="5654880"/>
              <a:ext cx="400320" cy="474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96160" y="5653800"/>
              <a:ext cx="269280" cy="48348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6560" y="4876920"/>
              <a:ext cx="132840" cy="9900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4520" y="4992480"/>
              <a:ext cx="41400" cy="27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52960" y="4876920"/>
            <a:ext cx="914040" cy="1260360"/>
            <a:chOff x="4152960" y="4876920"/>
            <a:chExt cx="914040" cy="1260360"/>
          </a:xfrm>
        </p:grpSpPr>
        <p:sp>
          <p:nvSpPr>
            <p:cNvPr id="90" name=""/>
            <p:cNvSpPr/>
            <p:nvPr/>
          </p:nvSpPr>
          <p:spPr>
            <a:xfrm>
              <a:off x="4444200" y="5038560"/>
              <a:ext cx="357840" cy="2541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52960" y="4973400"/>
              <a:ext cx="411840" cy="40716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41400" y="5311440"/>
              <a:ext cx="215280" cy="38232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1120" y="5321880"/>
              <a:ext cx="329040" cy="29340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66680" y="5654880"/>
              <a:ext cx="400320" cy="474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5400" y="5653800"/>
              <a:ext cx="269280" cy="48348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5800" y="4876920"/>
              <a:ext cx="132840" cy="9900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03760" y="4992480"/>
              <a:ext cx="41400" cy="27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172200" y="4876920"/>
            <a:ext cx="914040" cy="1260360"/>
            <a:chOff x="6172200" y="4876920"/>
            <a:chExt cx="914040" cy="1260360"/>
          </a:xfrm>
        </p:grpSpPr>
        <p:sp>
          <p:nvSpPr>
            <p:cNvPr id="99" name=""/>
            <p:cNvSpPr/>
            <p:nvPr/>
          </p:nvSpPr>
          <p:spPr>
            <a:xfrm>
              <a:off x="6463440" y="5038560"/>
              <a:ext cx="357840" cy="25416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4973400"/>
              <a:ext cx="411840" cy="40716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60640" y="5311440"/>
              <a:ext cx="215280" cy="38232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0360" y="5321880"/>
              <a:ext cx="329040" cy="29340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5920" y="5654880"/>
              <a:ext cx="400320" cy="474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34640" y="5653800"/>
              <a:ext cx="269280" cy="48348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55040" y="4876920"/>
              <a:ext cx="132840" cy="9900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3000" y="4992480"/>
              <a:ext cx="41400" cy="270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5588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172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9256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6416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5944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3104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2520" y="333360"/>
            <a:ext cx="29696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Заполните таблицу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1371600"/>
            <a:ext cx="7696080" cy="2743200"/>
            <a:chOff x="685800" y="1371600"/>
            <a:chExt cx="7696080" cy="2743200"/>
          </a:xfrm>
        </p:grpSpPr>
        <p:grpSp>
          <p:nvGrpSpPr>
            <p:cNvPr id="119" name=""/>
            <p:cNvGrpSpPr/>
            <p:nvPr/>
          </p:nvGrpSpPr>
          <p:grpSpPr>
            <a:xfrm>
              <a:off x="685800" y="3200400"/>
              <a:ext cx="7696080" cy="914400"/>
              <a:chOff x="685800" y="3200400"/>
              <a:chExt cx="7696080" cy="914400"/>
            </a:xfrm>
          </p:grpSpPr>
          <p:sp>
            <p:nvSpPr>
              <p:cNvPr id="120" name=""/>
              <p:cNvSpPr/>
              <p:nvPr/>
            </p:nvSpPr>
            <p:spPr>
              <a:xfrm>
                <a:off x="68580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2408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6380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0208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4216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81880" y="32004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" y="411480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5800" y="320040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85800" y="2289240"/>
              <a:ext cx="7696080" cy="914400"/>
              <a:chOff x="685800" y="2289240"/>
              <a:chExt cx="7696080" cy="914400"/>
            </a:xfrm>
          </p:grpSpPr>
          <p:sp>
            <p:nvSpPr>
              <p:cNvPr id="129" name=""/>
              <p:cNvSpPr/>
              <p:nvPr/>
            </p:nvSpPr>
            <p:spPr>
              <a:xfrm>
                <a:off x="68580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2408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6380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208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4216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381880" y="228924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5800" y="320364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5800" y="228924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85800" y="1371600"/>
              <a:ext cx="7696080" cy="914400"/>
              <a:chOff x="685800" y="1371600"/>
              <a:chExt cx="7696080" cy="91440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2408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6380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0208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4216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81880" y="1371600"/>
                <a:ext cx="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5800" y="228600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5800" y="1371600"/>
                <a:ext cx="769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765000" y="15271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          0           2         14       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5146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5 + 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397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0 -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4724280"/>
            <a:ext cx="563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0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 15 + 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15 + 2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 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5334120"/>
            <a:ext cx="563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0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0 – 2x = 40 -  2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0 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7040" y="243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444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444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43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7040" y="3352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3591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3591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3352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1:07:49Z</dcterms:created>
  <dc:creator>Зубарева И.И., Мильштейн М.С., Гамбарин В.Г.</dc:creator>
  <dc:description/>
  <dc:language>en-US</dc:language>
  <cp:lastModifiedBy>Semen</cp:lastModifiedBy>
  <dcterms:modified xsi:type="dcterms:W3CDTF">2007-07-22T08:23:44Z</dcterms:modified>
  <cp:revision>7</cp:revision>
  <dc:subject/>
  <dc:title>Презентация PowerPoint</dc:title>
</cp:coreProperties>
</file>