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2C66-F819-42E6-A5A5-71776B8C7B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B48-4DD2-4792-8453-265144D3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83E-BE1E-4563-8CD3-D3C77905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288-EACE-42EC-A252-44CE50CC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10F-8F7F-4DC7-A3E5-8C8CE6D7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90C-9D62-4DE5-8C96-3EBD853A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20B9-FC71-4366-998C-5C88B5B5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DA8-68D1-4205-91C6-007E5571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4E8-F92A-4FE6-8E73-90F81224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CA7-B624-430C-BFB5-32B6D481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ACC-DB3A-4892-B23A-4E3937BD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876-F71C-4405-9EDE-28FC9F38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D6C-2211-4F5C-81FB-6980F852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08A9-18C3-450D-AD84-D5F8B0BBE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295200"/>
            <a:ext cx="39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олните таблиц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1219320"/>
            <a:ext cx="8000640" cy="3352320"/>
            <a:chOff x="609480" y="1219320"/>
            <a:chExt cx="8000640" cy="3352320"/>
          </a:xfrm>
        </p:grpSpPr>
        <p:grpSp>
          <p:nvGrpSpPr>
            <p:cNvPr id="50" name=""/>
            <p:cNvGrpSpPr/>
            <p:nvPr/>
          </p:nvGrpSpPr>
          <p:grpSpPr>
            <a:xfrm>
              <a:off x="609480" y="1219320"/>
              <a:ext cx="7992360" cy="1100520"/>
              <a:chOff x="609480" y="1219320"/>
              <a:chExt cx="7992360" cy="1100520"/>
            </a:xfrm>
          </p:grpSpPr>
          <p:sp>
            <p:nvSpPr>
              <p:cNvPr id="51" name=""/>
              <p:cNvSpPr/>
              <p:nvPr/>
            </p:nvSpPr>
            <p:spPr>
              <a:xfrm>
                <a:off x="609480" y="121932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601840" y="121932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941480" y="121932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273480" y="121932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5840" y="121932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937840" y="121932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270200" y="121932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609480" y="2349000"/>
              <a:ext cx="7992360" cy="1100520"/>
              <a:chOff x="609480" y="2349000"/>
              <a:chExt cx="7992360" cy="1100520"/>
            </a:xfrm>
          </p:grpSpPr>
          <p:sp>
            <p:nvSpPr>
              <p:cNvPr id="59" name=""/>
              <p:cNvSpPr/>
              <p:nvPr/>
            </p:nvSpPr>
            <p:spPr>
              <a:xfrm>
                <a:off x="609480" y="234900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601840" y="234900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41480" y="234900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273480" y="234900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05840" y="234900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937840" y="234900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270200" y="234900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09480" y="3471120"/>
              <a:ext cx="7992360" cy="1100160"/>
              <a:chOff x="609480" y="3471120"/>
              <a:chExt cx="7992360" cy="1100160"/>
            </a:xfrm>
          </p:grpSpPr>
          <p:sp>
            <p:nvSpPr>
              <p:cNvPr id="67" name=""/>
              <p:cNvSpPr/>
              <p:nvPr/>
            </p:nvSpPr>
            <p:spPr>
              <a:xfrm>
                <a:off x="609480" y="3471120"/>
                <a:ext cx="0" cy="110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601840" y="3471120"/>
                <a:ext cx="0" cy="110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941480" y="3471120"/>
                <a:ext cx="0" cy="110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273480" y="3471120"/>
                <a:ext cx="0" cy="110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05840" y="3471120"/>
                <a:ext cx="0" cy="110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937840" y="3471120"/>
                <a:ext cx="0" cy="110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270200" y="3471120"/>
                <a:ext cx="0" cy="110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609480" y="1219320"/>
              <a:ext cx="7992720" cy="3352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9480" y="2345400"/>
              <a:ext cx="799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17400" y="3462480"/>
              <a:ext cx="799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09480" y="1523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1         4        7       12      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644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3200" y="3689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133720" y="4876920"/>
            <a:ext cx="914040" cy="1260360"/>
            <a:chOff x="2133720" y="4876920"/>
            <a:chExt cx="914040" cy="1260360"/>
          </a:xfrm>
        </p:grpSpPr>
        <p:sp>
          <p:nvSpPr>
            <p:cNvPr id="81" name=""/>
            <p:cNvSpPr/>
            <p:nvPr/>
          </p:nvSpPr>
          <p:spPr>
            <a:xfrm>
              <a:off x="2424960" y="5038560"/>
              <a:ext cx="357840" cy="25416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3720" y="4973400"/>
              <a:ext cx="411840" cy="40716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22160" y="5311440"/>
              <a:ext cx="215280" cy="38232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21880" y="5321880"/>
              <a:ext cx="329040" cy="29340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47440" y="5654880"/>
              <a:ext cx="400320" cy="47448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96160" y="5653800"/>
              <a:ext cx="269280" cy="48348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16560" y="4876920"/>
              <a:ext cx="132840" cy="9900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4520" y="4992480"/>
              <a:ext cx="41400" cy="270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152960" y="4876920"/>
            <a:ext cx="914040" cy="1260360"/>
            <a:chOff x="4152960" y="4876920"/>
            <a:chExt cx="914040" cy="1260360"/>
          </a:xfrm>
        </p:grpSpPr>
        <p:sp>
          <p:nvSpPr>
            <p:cNvPr id="90" name=""/>
            <p:cNvSpPr/>
            <p:nvPr/>
          </p:nvSpPr>
          <p:spPr>
            <a:xfrm>
              <a:off x="4444200" y="5038560"/>
              <a:ext cx="357840" cy="25416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52960" y="4973400"/>
              <a:ext cx="411840" cy="40716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41400" y="5311440"/>
              <a:ext cx="215280" cy="38232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41120" y="5321880"/>
              <a:ext cx="329040" cy="29340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66680" y="5654880"/>
              <a:ext cx="400320" cy="47448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15400" y="5653800"/>
              <a:ext cx="269280" cy="48348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35800" y="4876920"/>
              <a:ext cx="132840" cy="9900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03760" y="4992480"/>
              <a:ext cx="41400" cy="270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172200" y="4876920"/>
            <a:ext cx="914040" cy="1260360"/>
            <a:chOff x="6172200" y="4876920"/>
            <a:chExt cx="914040" cy="1260360"/>
          </a:xfrm>
        </p:grpSpPr>
        <p:sp>
          <p:nvSpPr>
            <p:cNvPr id="99" name=""/>
            <p:cNvSpPr/>
            <p:nvPr/>
          </p:nvSpPr>
          <p:spPr>
            <a:xfrm>
              <a:off x="6463440" y="5038560"/>
              <a:ext cx="357840" cy="25416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72200" y="4973400"/>
              <a:ext cx="411840" cy="40716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60640" y="5311440"/>
              <a:ext cx="215280" cy="38232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60360" y="5321880"/>
              <a:ext cx="329040" cy="29340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85920" y="5654880"/>
              <a:ext cx="400320" cy="47448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34640" y="5653800"/>
              <a:ext cx="269280" cy="48348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55040" y="4876920"/>
              <a:ext cx="132840" cy="9900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3000" y="4992480"/>
              <a:ext cx="41400" cy="270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95588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1720" y="3733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92560" y="3733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64160" y="3733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59440" y="3733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31040" y="3733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62520" y="333360"/>
            <a:ext cx="296964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Заполните таблицу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5800" y="1371600"/>
            <a:ext cx="7696080" cy="2743200"/>
            <a:chOff x="685800" y="1371600"/>
            <a:chExt cx="7696080" cy="2743200"/>
          </a:xfrm>
        </p:grpSpPr>
        <p:grpSp>
          <p:nvGrpSpPr>
            <p:cNvPr id="119" name=""/>
            <p:cNvGrpSpPr/>
            <p:nvPr/>
          </p:nvGrpSpPr>
          <p:grpSpPr>
            <a:xfrm>
              <a:off x="685800" y="3200400"/>
              <a:ext cx="7696080" cy="914400"/>
              <a:chOff x="685800" y="3200400"/>
              <a:chExt cx="7696080" cy="914400"/>
            </a:xfrm>
          </p:grpSpPr>
          <p:sp>
            <p:nvSpPr>
              <p:cNvPr id="120" name=""/>
              <p:cNvSpPr/>
              <p:nvPr/>
            </p:nvSpPr>
            <p:spPr>
              <a:xfrm>
                <a:off x="685800" y="32004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24080" y="32004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763800" y="32004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02080" y="32004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842160" y="32004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81880" y="32004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5800" y="4114800"/>
                <a:ext cx="769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5800" y="3200400"/>
                <a:ext cx="769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85800" y="2289240"/>
              <a:ext cx="7696080" cy="914400"/>
              <a:chOff x="685800" y="2289240"/>
              <a:chExt cx="7696080" cy="914400"/>
            </a:xfrm>
          </p:grpSpPr>
          <p:sp>
            <p:nvSpPr>
              <p:cNvPr id="129" name=""/>
              <p:cNvSpPr/>
              <p:nvPr/>
            </p:nvSpPr>
            <p:spPr>
              <a:xfrm>
                <a:off x="685800" y="228924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224080" y="228924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63800" y="228924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2080" y="228924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842160" y="228924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381880" y="228924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85800" y="3203640"/>
                <a:ext cx="769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85800" y="2289240"/>
                <a:ext cx="769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85800" y="1371600"/>
              <a:ext cx="7696080" cy="914400"/>
              <a:chOff x="685800" y="1371600"/>
              <a:chExt cx="7696080" cy="914400"/>
            </a:xfrm>
          </p:grpSpPr>
          <p:sp>
            <p:nvSpPr>
              <p:cNvPr id="138" name=""/>
              <p:cNvSpPr/>
              <p:nvPr/>
            </p:nvSpPr>
            <p:spPr>
              <a:xfrm>
                <a:off x="685800" y="13716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24080" y="13716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63800" y="13716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02080" y="13716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842160" y="13716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81880" y="13716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85800" y="2286000"/>
                <a:ext cx="769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85800" y="1371600"/>
                <a:ext cx="769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>
            <a:off x="765000" y="15271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х          0           2         14       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51460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5 + 2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339732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40 -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4724280"/>
            <a:ext cx="5638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 = 0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: 15 + 2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 = 15 + 2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 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5334120"/>
            <a:ext cx="5638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 = 0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40 – 2x = 40 -  2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0 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7040" y="2438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24447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24447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2438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7040" y="3352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33591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33591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3352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01:07:49Z</dcterms:created>
  <dc:creator>Зубарева И.И., Мильштейн М.С., Гамбарин В.Г.</dc:creator>
  <dc:description/>
  <dc:language>en-US</dc:language>
  <cp:lastModifiedBy>Semen</cp:lastModifiedBy>
  <dcterms:modified xsi:type="dcterms:W3CDTF">2007-07-22T08:23:44Z</dcterms:modified>
  <cp:revision>7</cp:revision>
  <dc:subject/>
  <dc:title>Презентация PowerPoint</dc:title>
</cp:coreProperties>
</file>