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838-5BCF-454D-8283-BF53A21E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126A-37A5-48F2-8746-60C585E7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E19-AD58-412B-AE99-62512272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8A9-4452-4199-94C5-F6D305E5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8EE-21D9-4FEA-A64E-095C9EEF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2BB-2AE6-43A3-9A7B-76A1ED16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AE4-F999-4992-B5B3-1FA14D91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8CE7-F920-4E14-B445-543109E1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8E9-C2A0-4142-BC4D-61F86653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B1AA-A8C5-418C-8CD1-24ACBD42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869-F5B7-461C-8AD3-34866720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CAD-261B-467C-A4B2-C19F72D1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6813-7D46-4E23-BD3E-18199055D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333360"/>
            <a:ext cx="5040360" cy="475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3300"/>
                </a:solidFill>
                <a:latin typeface="Arial"/>
              </a:rPr>
              <a:t>Составьте буквенно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58920" y="1068480"/>
            <a:ext cx="6842160" cy="4752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) сумма удвоенного числ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и числ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49840" y="1805040"/>
            <a:ext cx="12286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4720" y="2546280"/>
            <a:ext cx="7559640" cy="4752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) частное числа 38 и разности чисел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0200" y="3282840"/>
            <a:ext cx="344016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38 : (</a:t>
            </a: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20920" y="4005360"/>
            <a:ext cx="6372000" cy="4752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3) разность числ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45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 утроенного числ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6560" y="4761000"/>
            <a:ext cx="259560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45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3</a:t>
            </a: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20920" y="5500800"/>
            <a:ext cx="6588000" cy="4752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4) произведение числа 8 и суммы чисел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46560" y="6238800"/>
            <a:ext cx="259560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8 · (</a:t>
            </a: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9:32:07Z</dcterms:created>
  <dc:creator>MARYMIL</dc:creator>
  <dc:description/>
  <dc:language>en-US</dc:language>
  <cp:lastModifiedBy>Semen</cp:lastModifiedBy>
  <dcterms:modified xsi:type="dcterms:W3CDTF">2007-07-22T08:26:39Z</dcterms:modified>
  <cp:revision>8</cp:revision>
  <dc:subject/>
  <dc:title>Слайд 1</dc:title>
</cp:coreProperties>
</file>