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F067-70E7-4402-800C-04D4066C1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B8D4-FA9B-4F19-8C41-E763ADBAA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CDE4-5815-4F7C-A03F-C0DEC9C36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BCFA-0BC6-4358-A038-F2E63C7FB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8518-E13E-45B5-B818-0836BF3B4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01E6-E871-4E69-8141-4C0D2F53B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31FF-EB80-4402-B3F4-39AEBCF0C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19DD-EDB7-4DDF-AD75-116C03611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B831-6ED2-4F85-989B-FC8E25D24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C8BF-866B-4E90-9BB2-8167B76E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7B5D-43AB-4931-B16D-765BD438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C4BF-14C6-4EF9-9D4B-1852698A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24CAF-C4D7-436C-8105-E9B869B4A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79640" y="333360"/>
            <a:ext cx="5040360" cy="4752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3300"/>
                </a:solidFill>
                <a:latin typeface="Arial"/>
              </a:rPr>
              <a:t>Составьте буквенное выражени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58920" y="1068480"/>
            <a:ext cx="6842160" cy="4752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1) сумма удвоенного числа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и числа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49840" y="1805040"/>
            <a:ext cx="1228680" cy="509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6633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66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44720" y="2546280"/>
            <a:ext cx="7559640" cy="4752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2) частное числа 38 и разности чисел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770200" y="3282840"/>
            <a:ext cx="3440160" cy="509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38 : (</a:t>
            </a:r>
            <a:r>
              <a:rPr b="1" i="1" lang="en-US" sz="2400" spc="-1" strike="noStrike">
                <a:solidFill>
                  <a:srgbClr val="6633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33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20920" y="4005360"/>
            <a:ext cx="6372000" cy="4752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3) разность числа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45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и утроенного числа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346560" y="4761000"/>
            <a:ext cx="2595600" cy="509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45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 3</a:t>
            </a:r>
            <a:r>
              <a:rPr b="1" i="1" lang="en-US" sz="2400" spc="-1" strike="noStrike">
                <a:solidFill>
                  <a:srgbClr val="6633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20920" y="5500800"/>
            <a:ext cx="6588000" cy="4752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4) произведение числа 8 и суммы чисел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46560" y="6238800"/>
            <a:ext cx="2595600" cy="509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8 · (</a:t>
            </a:r>
            <a:r>
              <a:rPr b="1" i="1" lang="en-US" sz="2400" spc="-1" strike="noStrike">
                <a:solidFill>
                  <a:srgbClr val="6633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663300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1T09:32:07Z</dcterms:created>
  <dc:creator>MARYMIL</dc:creator>
  <dc:description/>
  <dc:language>en-US</dc:language>
  <cp:lastModifiedBy>Semen</cp:lastModifiedBy>
  <dcterms:modified xsi:type="dcterms:W3CDTF">2007-07-22T08:26:39Z</dcterms:modified>
  <cp:revision>8</cp:revision>
  <dc:subject/>
  <dc:title>Слайд 1</dc:title>
</cp:coreProperties>
</file>